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C95-DD36-497A-A765-11F80881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01A-857D-4EE8-BF1B-98688549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4B0A4-9330-4F62-A9DE-FF4467A2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C675-5DE8-4DBC-B79D-23E21F37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8DAB0-5E05-46F8-8978-1666C93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9216F-F831-44C3-A3A5-5D3CFFA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B0CBF-3EE5-43DD-B669-6D544DE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76D4-D1F9-4473-A601-5FFBB2D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B869C-7963-440A-A65D-E2F84669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2414-0B17-4F3A-99E9-4196E247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CACF-BD6A-4776-81D0-D30F9F23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FAD49-D8DB-4FD8-8BD2-CE6FD50B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C14-8C13-4D74-B86E-60B91EDA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EAFD2-73E2-494A-8104-9D1E74E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6A451-7430-461E-89EE-13305225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38CE9-DCB3-4268-BC7D-E378D8D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2F03B-B0AA-49C3-A860-7680398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EF0D3-E8C6-4BD4-8E4C-083E992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BA2FC-ABE8-47C7-93DD-49E0A0C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AE5D8-F302-4872-9E7B-F5FE0D7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B37B-9C35-4788-9807-CD5403A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C586E-C4E9-4600-9E90-9566FED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07688-CC1C-4FD8-9063-7A399077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14B-F2A5-46A9-82CB-4C6A649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210F9-592B-4165-ABF9-797C7A75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A15C-0388-4BFC-B09F-67EFD56B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5942E-9BA8-4BE4-BA85-96517C6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3CCFC-C02C-4D6D-BE5B-C699711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55A60-4661-43F0-9647-C758068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C4D1D-AFEB-40B3-89E9-C75384E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D1428-84A2-4A3C-A338-ED2B794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9104-ED0D-44AA-8DA8-991EEEE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7161-989C-4A0A-B294-40E0C92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248A-7142-4ED2-B4F3-C811784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50BA-2E36-41D1-8847-0C38F743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6A52-73B1-4E4D-90B4-7D630FA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79E85-EE5B-4A37-B3E6-41056E62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B918-66EC-4C1D-A016-B70483FE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AD0BF-708D-4D30-A93B-174967E0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591DD-3C27-4D2B-8C8D-FD2F7BC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40642-B635-4F59-A4DC-4058C0EC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4ABF0-7912-4794-AF95-B6BCB4A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1B588-1FBB-4D5E-A05A-8406CDA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88AFA-092B-4FCB-A859-A036881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2F42B-EE4D-4444-8EEF-A53F9CC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DCD7-E4B0-4CEF-ADE3-8FFB82B9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BA224-D83B-4408-A797-F8AEE3F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A2891-1621-42BA-B66A-A0BB6D8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E299F-6E20-4761-97F5-78AAA38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BA610-CA5A-4F2B-A8AD-2B5F1901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AE0B2-F039-4179-B8AA-E0D33A97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FD2B-60E6-4274-A96C-34C4697B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BD74-E408-44BF-A65B-963FAB38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208-06E6-467B-944A-FDEFFC3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4774-872C-4F75-9A77-674A551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59F-1167-4090-9839-4F5743F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26F-BB4A-40E5-8838-B341E210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04E-9BA5-44E0-AA02-AA2A690D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F0CF-F970-4102-871D-319CF3B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DD7C-2B41-4F06-9409-953C3706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978-BD85-4CF8-ABE4-FDEE6916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E8C8-9EFD-44B3-A7E6-5DB38EE9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74B8-36F3-440D-A1FF-1F20C224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56E8-7555-47F2-BF4D-3F671F0B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9208-4246-4A63-A159-CBBA5FA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1700-97F2-4E4D-8D12-5C71937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8E56-7484-4697-96A7-31CE73BF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FD8-371C-43B0-9C54-E0C2CCF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77F0-C4E7-4BA2-9A4E-D9333FA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BE1F-F6D5-4CC8-A6E4-4597F5C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1571-236D-4E53-9D9E-D2136A9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8A8F-9AA6-4158-AF02-9E570A1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E608-77F5-4795-B982-DBEFD61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B845-2A4A-408A-9A49-947DBE9D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0D3C-82D3-4DC8-B2CA-BB034207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6D20-F9C6-4803-8D9A-E44E68CF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672D-721D-4194-AC68-4E968C1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A772-AA1A-46F6-A4FC-DB2A671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D90-68DD-4A4C-8243-580FCBB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28CF-27AD-48FC-BC41-8E81329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B342-BF3E-4787-A20C-1808664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C55D-E5EF-4F0B-9484-31AB49B6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E52F-51C4-44BF-8F40-DA8D291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86CB-19F2-4EE1-B5A0-D7FEDEE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8FEB-198D-4408-976E-C5D5594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965A-51AA-46A3-BE14-07EE6BF1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2213-DC03-4013-B476-DF0C76AF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E6E0-4ECE-479F-9D7C-BCEA3562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4D39-0599-4E51-8A0C-C98FBFC4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DF1-E7E8-4E46-82E3-47FFC36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C5AD-76E5-4DE9-B853-45B8C72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6D15-D6E7-462B-9B57-7653636A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C649-4BDF-40AF-978B-EFDC1BF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CC39-7C91-4E0D-887E-862281B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497B-C360-44CF-8E10-B1EDF4B1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4CC1-12C7-4A5C-8E0C-E8E6F95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EBFF-F23D-4165-A2B9-C7846B5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8186-B501-419C-A4F9-C03E687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4E43-FB19-4179-ABC8-563A3C50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2067-8F86-4841-9DEA-C3E9A2F0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D3E-BF2A-4308-BF19-F3094816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828D-3EA1-4ADD-8D7B-F8C59456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0B8F-9D88-4249-9AB4-D233C783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A0DE-633C-4208-875D-F08F420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D909-8294-4A02-8C65-757C20A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CF49-3CFB-4CE7-BC1C-AA9206D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B6D0-855C-44D4-A0C3-AECBFE9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37041-DC25-43F5-BBC7-5BF9992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624C-0538-494B-859E-F09CD9D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1EED-5C06-45F0-9D40-820FDFA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5557-8D4D-48E7-B23B-32D0774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35A-6CC7-497B-8AE8-01051F5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A4D6-2234-49E1-ABF3-063DA97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881A-D954-4D21-BD5D-6FB75FD6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A545-99D9-41D1-9DED-C7116B34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D731-5120-440A-9BC6-2C58EEF9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90EA1-746F-4667-8528-08A9B0E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76209-A8B3-4510-A5D8-DE107CF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1101-15DE-459C-9E0B-36B521DA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BB0A-1D2D-4868-AE47-488112B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2F25-D492-4D1E-A0CD-A6F017B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3FBB-0AC0-4B7F-A731-4BBCBB20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D00-594D-4F6D-8BAC-E303CAE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712F-D0E5-490A-BC0C-BAA553B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64E9-FA99-4537-BC92-F4DA1C0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397B-84DA-4CD1-9123-4B9E4EB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C6D6-30B2-4C02-89F1-7E1D0F12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DD14D-B7CA-4DA7-A4FD-CD6DA5BE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0554F-2870-4BE7-A4CF-72392F4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6271-C1CF-47CF-9FAE-E5D598D5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40CE0-F731-4C7A-B6C7-E1B96C7F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A044-372E-48C3-AC0D-8A11C135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4319-E18A-41B9-BED5-423DB6A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00B-FC28-4B74-921D-D3A8219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BBFB-6DEB-40C4-8AE5-19ADFB1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D18B-5C6F-4301-87C7-37E9090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F5F6-7681-4548-B21E-E6C3CCE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32BD-3EF1-4303-9C64-8934C3E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6AF1B-43CC-4BDA-9CE0-E6A57400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175A-A178-4BB9-B6AF-149B3782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57EC-1429-4FB6-959E-652F39B3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5CDC6-F3FB-4160-8F56-74C47E7F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15B6A-8AEC-4A9A-90B5-F922891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D5917-60B0-4BC3-BE0C-14D6E8BC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8680-FEE3-4174-8A27-124EB1106F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5BA-6004-4B6D-95BB-262C0D17F9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0938-098E-4A15-9C5C-8CF88DEA66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788-69BF-41F5-B511-0027B7C419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4BF-1D2B-4354-8002-53D3B68CA4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86D-A728-4F55-A37D-573AB776A7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93FC-FCA3-4D65-AC5F-A8680143AC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084B-21A2-40DC-AE27-12E4ECF34A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1B3-3F07-4BFE-BD78-7C61A74197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1F3-8E34-4D6E-AFA0-9B483E34C9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E96E-84AF-4687-A1AD-19A1044024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32A-991B-4A14-AB40-B739369646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6 Len tvojou cestou vp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ou cestou vpr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kráčať, Pane,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ruku uchop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vôkol zúri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vojej ruke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istý v zmätku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aj tme navzdo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š svojím svetlom vi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vojich šľapaj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r cesty k cieľu zr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to živo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užby prijmi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rdcu vládni 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omrie pyšné 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žom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ôle tvojej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šetko poruč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radosť chceš mi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mútok okús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, so mnou 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ôj hrad a ští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iaď túžob mojich l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ovom svojím sý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20:24Z</dcterms:modified>
  <cp:revision>24</cp:revision>
  <dc:subject/>
  <dc:title>Je veľký náš Pán, on slávy je Kráľ Nech do všetkých strán  spev vrúcnych znie chvál.</dc:title>
</cp:coreProperties>
</file>